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4D2-1585-4F1C-9029-24938A7C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FE2-7F86-42AB-8AD8-6AAF095E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6D0-371F-4C44-B74A-AA622391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F3F-B5C7-4DDF-89E1-0F9F249F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5D24-2E7F-445C-A938-A5C476D2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DD9F-5D5C-4677-BE8C-3342F446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C1AB-2DBE-4860-A529-3B3A6033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E972-9344-4873-8035-52955D33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FD2E-FC29-4741-85B4-A30B8E48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F616-F611-40F7-A7E0-3C624A02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C291-B43D-4FEE-9D7D-BEE77415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DEB-A93D-4FB5-AE4F-E119DB56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F2B0-EB89-43CF-9D4D-C6744645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6526-340F-4848-9F8A-6430B1B1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DC8D-6E54-48A1-AE34-BE122F6B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070E-D938-4D35-8468-754046EC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AED9-9290-4C7E-B9F4-A5BB0A8E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F2A-88D5-489E-B24B-27A9EB51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FB9-D6C9-4DD8-AB6E-261E3639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5FE-935D-463E-AFFB-2D9E2EA4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066-0ADE-42F8-BF0B-F4B5FD53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342-28D3-47FC-B57E-AF7CDD79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C54-D0B8-46AE-8B5E-D653CCA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269-8128-4FF1-B462-9D9718EF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5473-56F2-43C8-9933-1841C0A14103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587C-25AC-4760-924F-EC4255AC1C42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4A18-65D8-42DA-9211-8E85291F8F54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E989-3E2B-48E5-A5BD-5603D7ADCD2C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HISTORIA DEL A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923000" cy="30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6653-EDE0-4AE7-8AD1-AC1771BDDD3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1.-Clasifica la obra situándola en el tiempo y en el espaci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Nombre de la o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Estilo, cultu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Localización cronológica y geográfica (siglo, país, ciudad, museo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Auto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2.-Analiza el contexto histórico-artístico en el que fue realizad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El análisis de este apartado ha de tener en cuenta las características </a:t>
            </a: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históricas,  culturales y</a:t>
            </a: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artísticas</a:t>
            </a: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 de la época y del lugar al que pertenece la obra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14440" indent="-226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Citar otras obras del mismo estilo, autor, época..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3.-Análisis de aspectos descriptivos, formales y técnicos</a:t>
            </a: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En este apartado hay que tener en cuenta si estamos ante una obra de arquitectura, escultura o pintura y  después ir analizando los aspectos descriptivos, formales y técnicos propios de la cultura o estilo al que pertenezca. Culturas y estilos que iremos viendo en los sucesivos temas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Muy importante es emplear un vocabulario específico con precisión y rigo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4.- Aspectos de significado y contenid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En este apartado se comentan aquellos significados que nos transmite la obra de arte. Ya que la obra de arte pertenece a un época, se realiza en un contexto, estos significados están relacionados con el momento histórico en el que el autor la realizó, así como también con las circunstancias personales y colectivas del auto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Pautas para el análisis y 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mentario de una lámin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774-E2FD-4416-924A-64427419FB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1774800" cy="10954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62160" y="609120"/>
            <a:ext cx="47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791320" cy="9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800000"/>
                </a:solidFill>
                <a:uFillTx/>
                <a:latin typeface="Times New Roman"/>
              </a:rPr>
              <a:t>1.-Clasifica la obra situándola en el tiempo y en el espac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Nombre de la obr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Estilo, cultur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Localización cronológica y geográfica (siglo, país, ciudad, museo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Aut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91320" y="3124080"/>
            <a:ext cx="3124080" cy="1051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Bisonte de Altamir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Arte rupestre Franco-Cantábrico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Entre 13.000 y 14.000 años a. C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Paleolítico Superio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Cueva de Altamira. Santillana del Mar (Cantabria)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Homo sapien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33F-B6EB-49AC-B8DA-B9B6F88D0438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800000"/>
                </a:solidFill>
                <a:uFillTx/>
                <a:latin typeface="Times New Roman"/>
              </a:rPr>
              <a:t>2.-Analiza el contexto histórico-artístico en el que fue realizad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El análisis de este apartado ha de tener en cuenta las características </a:t>
            </a:r>
            <a:r>
              <a:rPr b="1" lang="es-ES" sz="1800" spc="-1" strike="noStrike" u="sng">
                <a:solidFill>
                  <a:srgbClr val="800000"/>
                </a:solidFill>
                <a:uFillTx/>
                <a:latin typeface="Times New Roman"/>
              </a:rPr>
              <a:t>históricas,  culturales y</a:t>
            </a: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s-ES" sz="1800" spc="-1" strike="noStrike" u="sng">
                <a:solidFill>
                  <a:srgbClr val="800000"/>
                </a:solidFill>
                <a:uFillTx/>
                <a:latin typeface="Times New Roman"/>
              </a:rPr>
              <a:t>artísticas</a:t>
            </a: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 de la época y del lugar al que pertenece la obra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Times New Roman"/>
              </a:rPr>
              <a:t>Citar otras obras del mismo estilo, autor, época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7960" y="2214360"/>
            <a:ext cx="4267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Paleolítico Superior</a:t>
            </a:r>
            <a:r>
              <a:rPr b="0" i="1" lang="es-ES" sz="1200" spc="-1" strike="noStrike" u="sng">
                <a:solidFill>
                  <a:srgbClr val="003366"/>
                </a:solidFill>
                <a:uFillTx/>
                <a:latin typeface="Times New Roman"/>
              </a:rPr>
              <a:t>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El hombre del Paleolítico es nómada y depredador, vive     de la caza y depende de los animales para su subsistencia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Se refugia del frío en las cuevas. Estas pinturas se     encuentran en el fondo de estas cuevas, en las paredes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Al conjunto de estas pinturas se le conoce con el nombre de: Arte rupestre franco-cantábric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Representa sobre todo animales aislados y  de  manera naturalista con efectos de relieve y profundidad. Aprovecha para ello el relieve de la roca y la intensidad del color. El color lo obtiene mediante pigmentos y tierras naturales. Predominan el rojo, ocre, amarillo. Como aglutinante, las grasa de los animales. Pintan con los dedos o con pinceles de pelos de animales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Times New Roman"/>
              </a:rPr>
              <a:t>Norte de la Península Ibérica y sur de Francia (Altammira, El Castillo,Cándamo, Lascaux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136692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152280" y="3124080"/>
          <a:ext cx="186372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124080"/>
                    <a:ext cx="18637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1981080" y="609480"/>
            <a:ext cx="1328760" cy="1247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380880" y="152280"/>
            <a:ext cx="1320840" cy="1737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E2B-78DB-43BC-AAF3-F089440BC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800000"/>
                </a:solidFill>
                <a:uFillTx/>
                <a:latin typeface="Times New Roman"/>
              </a:rPr>
              <a:t>3.-Análisis de aspectos descriptivos, formales y técnicos</a:t>
            </a:r>
            <a:r>
              <a:rPr b="0" lang="es-ES" sz="2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En este apartado hay que tener en cuenta si estamos ante una obra de arquitectura, escultura o pintura y  después ir analizando los aspectos descriptivos, formales y técnicos propios de la cultura o estilo al que pertenezca. Culturas y estilos que iremos viendo en los sucesivos tema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Muy importante es emplear un vocabulario específico con precisión y rig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En este caso es una pintu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5715000"/>
            <a:ext cx="24382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91F-A7DF-4C89-A24B-BA344BE765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Es una pintura</a:t>
            </a:r>
            <a:r>
              <a:rPr b="0" i="1" lang="es-ES" sz="1600" spc="-1" strike="noStrike" u="sng">
                <a:solidFill>
                  <a:srgbClr val="003366"/>
                </a:solidFill>
                <a:uFillTx/>
                <a:latin typeface="Times New Roman"/>
              </a:rPr>
              <a:t> pariet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La obra representa un animal típico de la época glaciar. Es un bisonte. Está de pie y se aprecia el</a:t>
            </a:r>
            <a:r>
              <a:rPr b="0" i="1" lang="es-ES" sz="1600" spc="-1" strike="noStrike" u="sng">
                <a:solidFill>
                  <a:srgbClr val="003366"/>
                </a:solidFill>
                <a:uFillTx/>
                <a:latin typeface="Times New Roman"/>
              </a:rPr>
              <a:t> naturalismo </a:t>
            </a: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con el que ha sido representado tanto en el color como en las proporciones, volumen..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Los colores utilizados son el negro, ocres, rojos castaños. La figura aparece con el contorno señalado mediante el grabado y el color negr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El volumen lo consiguen degradando el col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Aprovechan los salientes de las rocas para crear ilusión de  profund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Times New Roman"/>
              </a:rPr>
              <a:t>La figura aparece aislada sin formar conjunto con las otras figuras que la rodean, sin referencia espacial, como si estuviera flotan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863960" y="2949480"/>
            <a:ext cx="3903840" cy="24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980-F421-4288-8D93-FBD425493F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800000"/>
                </a:solidFill>
                <a:uFillTx/>
                <a:latin typeface="Times New Roman"/>
              </a:rPr>
              <a:t>Aspectos de significado y conteni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En este apartado se comentan aquellos significados que nos transmite la obra de arte. Ya que la obra de arte pertenece a un época, se realiza en un contexto, estos significados están relacionados con el momento histórico en el que el autor la realizó, así como también con las circunstancias personales y colectivas del aut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9880" y="5257800"/>
            <a:ext cx="182880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E8F-7ECD-4615-82CE-197A52A4B9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autas para el análisis y comentario de una lámi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067280" cy="3881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800000"/>
                </a:solidFill>
                <a:uFillTx/>
                <a:latin typeface="Times New Roman"/>
              </a:rPr>
              <a:t>Análisis de aspectos de contenido y  significado de la obra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El </a:t>
            </a:r>
            <a:r>
              <a:rPr b="0" i="1" lang="es-ES" sz="1600" spc="-1" strike="noStrike" u="sng">
                <a:solidFill>
                  <a:srgbClr val="800000"/>
                </a:solidFill>
                <a:uFillTx/>
                <a:latin typeface="Times New Roman"/>
              </a:rPr>
              <a:t>naturalismo </a:t>
            </a:r>
            <a:r>
              <a:rPr b="0" lang="es-ES" sz="1600" spc="-1" strike="noStrike">
                <a:solidFill>
                  <a:srgbClr val="800000"/>
                </a:solidFill>
                <a:latin typeface="Times New Roman"/>
              </a:rPr>
              <a:t>con el que ha sido representado y el lugar ( al fondo de la cueva), ha hecho que algunos teóricos hayan visto en estas pinturas un significado mágico-religioso. Las representaciones de animales, serían un medio de captar su imagen y de esa forma propiciar la caza y la fecundidad. Es decir, asegurar la preservación de la especie en unas circunstancias difíci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2900160" cy="19335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66"/>
                </a:solidFill>
                <a:latin typeface="Times New Roman"/>
              </a:rPr>
              <a:t>Bisonte Altami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CD9-D7D7-4051-9B44-FF0AD709CE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érmin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00"/>
                </a:solidFill>
                <a:latin typeface="Times New Roman"/>
              </a:rPr>
              <a:t>En todos los exámenes hay que definir  términos relacionados con la materia y explicados en el desarrollo del tem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0000"/>
                </a:solidFill>
                <a:latin typeface="Times New Roman"/>
              </a:rPr>
              <a:t>Es importante acompañar la definición con ejemp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800000"/>
                </a:solidFill>
                <a:uFillTx/>
                <a:latin typeface="Times New Roman"/>
              </a:rPr>
              <a:t>Parietal, Rupestre, Naturalismo</a:t>
            </a:r>
            <a:r>
              <a:rPr b="0" lang="es-ES" sz="2400" spc="-1" strike="noStrike">
                <a:solidFill>
                  <a:srgbClr val="800000"/>
                </a:solidFill>
                <a:latin typeface="Times New Roman"/>
              </a:rPr>
              <a:t> son términos que han aparecido en esta introduc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jemplo: </a:t>
            </a:r>
            <a:r>
              <a:rPr b="0" i="1" lang="es-ES" sz="2400" spc="-1" strike="noStrike" u="sng">
                <a:solidFill>
                  <a:srgbClr val="003366"/>
                </a:solidFill>
                <a:uFillTx/>
                <a:latin typeface="Times New Roman"/>
              </a:rPr>
              <a:t>Parietal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 : pintura realizada sobre las paredes de las cuevas en el Paleolítico Superior, por ejemplo: las pinturas de las cuevas de Altami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A46-70CC-418E-8C7A-32FCB40509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riano</cp:lastModifiedBy>
  <dcterms:modified xsi:type="dcterms:W3CDTF">2008-10-18T10:23:25Z</dcterms:modified>
  <cp:revision>25</cp:revision>
  <dc:subject/>
  <dc:title>Presentación de PowerPoint</dc:title>
</cp:coreProperties>
</file>